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19E6C-F899-409E-BF02-35395058E9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EDECD-E513-4638-ADB4-77D6F505E3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D44C2-36FA-41F9-9139-E464C5272A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2D1B0-623F-4FFD-B3BA-BF7B0349AC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E4C8D-4672-43BB-8068-C2A8B5E8C6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EC96F-9408-4BB6-8B1C-78529F7EC8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99722-EAB2-4E37-BD9F-9766F73348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6E531-CA98-48CA-814E-7D056098DB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53F32-27D7-4059-BEC5-69894A09B4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D1E85-DF37-4104-BF90-932F568BC2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0D437-EA4E-4E3D-A306-C1C84B79EB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24F2C-0B0E-4B8B-A5F8-562631C1E4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694200" y="6536160"/>
            <a:ext cx="76500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EB3A6A42-8C7D-4119-B4C7-71397258D9BB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18320" y="6561720"/>
            <a:ext cx="150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CONFID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320" y="6591240"/>
            <a:ext cx="244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BenQ-Siemens, EF81 – November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499"/>
              </a:spcBef>
              <a:buClr>
                <a:srgbClr val="004b6a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lnSpc>
                <a:spcPts val="22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3" marL="1676520" indent="-239760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–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4" marL="2155680" indent="-239400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»"/>
              <a:tabLst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5" marL="2155680" indent="-239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6" marL="2155680" indent="-239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66247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erry Vodafone Approval plan (SG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00476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44936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89540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343240" y="980640"/>
            <a:ext cx="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78748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23064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6052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4123800" y="980640"/>
            <a:ext cx="176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564080" y="980640"/>
            <a:ext cx="468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5016600" y="980640"/>
            <a:ext cx="302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543564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6351480" y="980640"/>
            <a:ext cx="223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660840" y="980640"/>
            <a:ext cx="190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04000" y="1052640"/>
            <a:ext cx="1440" cy="5472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730728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586728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1700280"/>
            <a:ext cx="465120" cy="0"/>
          </a:xfrm>
          <a:prstGeom prst="line">
            <a:avLst/>
          </a:prstGeom>
          <a:ln w="38160">
            <a:solidFill>
              <a:srgbClr val="ff82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07080" y="3878280"/>
            <a:ext cx="1508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72360" y="1052640"/>
            <a:ext cx="1506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F f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64360" y="1628640"/>
            <a:ext cx="12060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38480" y="1697040"/>
            <a:ext cx="3989160" cy="3240"/>
          </a:xfrm>
          <a:prstGeom prst="line">
            <a:avLst/>
          </a:prstGeom>
          <a:ln w="38160">
            <a:solidFill>
              <a:srgbClr val="ff82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41360" y="1696680"/>
            <a:ext cx="1531800" cy="34920"/>
          </a:xfrm>
          <a:prstGeom prst="line">
            <a:avLst/>
          </a:prstGeom>
          <a:ln w="38160">
            <a:solidFill>
              <a:srgbClr val="ff82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1628640"/>
            <a:ext cx="12204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80360" y="1844640"/>
            <a:ext cx="108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art shi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64040" y="1314360"/>
            <a:ext cx="180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CF / TA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39760" y="1625760"/>
            <a:ext cx="11916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76360" y="2492280"/>
            <a:ext cx="82548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276720" y="2491920"/>
            <a:ext cx="3527280" cy="14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04000" y="2492280"/>
            <a:ext cx="466920" cy="144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65160" y="2666880"/>
            <a:ext cx="180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e-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65480" y="2685960"/>
            <a:ext cx="361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ptance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80000" y="2852640"/>
            <a:ext cx="108432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101080" y="2276640"/>
            <a:ext cx="1440" cy="261612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7280" y="2060640"/>
            <a:ext cx="36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8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4221000"/>
            <a:ext cx="17460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71640" y="4653000"/>
            <a:ext cx="16416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59280" y="494172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59280" y="4941720"/>
            <a:ext cx="11336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59280" y="486900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03640" y="429264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41120" y="465300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298560" y="4365720"/>
            <a:ext cx="1441080" cy="536400"/>
            <a:chOff x="6298560" y="4365720"/>
            <a:chExt cx="1441080" cy="536400"/>
          </a:xfrm>
        </p:grpSpPr>
        <p:sp>
          <p:nvSpPr>
            <p:cNvPr id="124" name=""/>
            <p:cNvSpPr/>
            <p:nvPr/>
          </p:nvSpPr>
          <p:spPr>
            <a:xfrm>
              <a:off x="6701760" y="4365720"/>
              <a:ext cx="173160" cy="234000"/>
            </a:xfrm>
            <a:prstGeom prst="triangle">
              <a:avLst>
                <a:gd name="adj" fmla="val 50000"/>
              </a:avLst>
            </a:prstGeom>
            <a:solidFill>
              <a:srgbClr val="bad1e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98560" y="4651920"/>
              <a:ext cx="1441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t">
              <a:sp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2b5d"/>
                  </a:solidFill>
                  <a:latin typeface="Arial"/>
                </a:rPr>
                <a:t>Start Test Phase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403280" y="4292640"/>
            <a:ext cx="17316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85840" y="4633920"/>
            <a:ext cx="108432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Pr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48000" y="4869000"/>
            <a:ext cx="1008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700000" y="5494320"/>
            <a:ext cx="4692960" cy="259920"/>
            <a:chOff x="2700000" y="5494320"/>
            <a:chExt cx="4692960" cy="259920"/>
          </a:xfrm>
        </p:grpSpPr>
        <p:sp>
          <p:nvSpPr>
            <p:cNvPr id="130" name=""/>
            <p:cNvSpPr/>
            <p:nvPr/>
          </p:nvSpPr>
          <p:spPr>
            <a:xfrm flipH="1">
              <a:off x="2699640" y="5502240"/>
              <a:ext cx="1983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314240" y="5502240"/>
              <a:ext cx="19980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6188040" y="5502240"/>
              <a:ext cx="2001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59320" y="5499000"/>
              <a:ext cx="1135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25640" y="5504040"/>
              <a:ext cx="11318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259320" y="5494320"/>
              <a:ext cx="11336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24000" y="4192560"/>
            <a:ext cx="7777080" cy="2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080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939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9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385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828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259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702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13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561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007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4212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8636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7236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0400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0872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34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6276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70640" y="400536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897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4836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464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95520" y="401328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034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0920" y="4005360"/>
            <a:ext cx="1335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020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43360" y="401328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16680" y="401652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879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6564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1280" y="402444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86160" y="402444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14480" y="484992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58920" y="486900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1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16200000">
            <a:off x="1244880" y="330696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03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44520" y="5494320"/>
            <a:ext cx="200160" cy="2016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6360" y="549756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SW Drop Pre</a:t>
            </a: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73440" y="3756240"/>
            <a:ext cx="397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-720" bIns="46080" anchor="t" vert="eaVer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2440" y="2773440"/>
            <a:ext cx="3319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88360" y="2881440"/>
            <a:ext cx="2448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1200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2472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7124040" y="33260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.10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6200000">
            <a:off x="6620760" y="33242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5.09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3038760" y="337500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31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6200000">
            <a:off x="4838040" y="3378240"/>
            <a:ext cx="682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8.8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09800" y="2492280"/>
            <a:ext cx="3938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11280" y="2492280"/>
            <a:ext cx="2876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11280" y="2060640"/>
            <a:ext cx="10083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ugfix +re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CA025-B96D-4BE3-BEA4-3BDC7FBF8E5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6T08:11:40Z</dcterms:created>
  <dc:creator>CB</dc:creator>
  <dc:description/>
  <dc:language>en-US</dc:language>
  <cp:lastModifiedBy>bartlt</cp:lastModifiedBy>
  <cp:lastPrinted>2003-08-14T19:11:01Z</cp:lastPrinted>
  <dcterms:modified xsi:type="dcterms:W3CDTF">2006-02-21T14:41:06Z</dcterms:modified>
  <cp:revision>572</cp:revision>
  <dc:subject/>
  <dc:title>Aurora / Ulysses - Product Overview and Summa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58433915</vt:r8>
  </property>
  <property fmtid="{D5CDD505-2E9C-101B-9397-08002B2CF9AE}" pid="3" name="_AuthorEmail">
    <vt:lpwstr>Thomas.Bartl@BenQ.com</vt:lpwstr>
  </property>
  <property fmtid="{D5CDD505-2E9C-101B-9397-08002B2CF9AE}" pid="4" name="_AuthorEmailDisplayName">
    <vt:lpwstr>Thomas Bartl</vt:lpwstr>
  </property>
  <property fmtid="{D5CDD505-2E9C-101B-9397-08002B2CF9AE}" pid="5" name="_EmailSubject">
    <vt:lpwstr>Jerry-Vodafone-Approval-Plan status 060221.ppt</vt:lpwstr>
  </property>
  <property fmtid="{D5CDD505-2E9C-101B-9397-08002B2CF9AE}" pid="6" name="_NewReviewCycle">
    <vt:lpwstr/>
  </property>
</Properties>
</file>